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AB6-2007-4886-8B20-85CF5DD6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FA2-0F16-4178-98DC-D7F5FA59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D2E-4CD5-411B-82D6-7840F8DA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4E5-B75C-4C79-AC5D-E3B6F63E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C31-9232-4DFA-A0A1-69B093FA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205-8102-44E4-AAF5-5EAB2129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E5E-4EAF-4BE2-B375-158D9E9B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D0F-ACA1-4D14-836F-85296017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218-CE1B-4A12-A2B8-FDA76961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41D-40C1-4C03-BEC6-E33FFE87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F304-11D3-4BB9-B3B4-264B4784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A807-9EB0-41D6-A2FE-3DE1B8CC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5898-CAC2-477C-A161-FC694C5F2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51460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Monotype Corsiva"/>
              </a:rPr>
              <a:t>Movimenti migrato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2743200" y="3808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0"/>
            <a:ext cx="3429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Le persone vanno  a vivere in un altro paese p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7621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05720" y="1447920"/>
            <a:ext cx="243828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Sfuggire da situazioni diffic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(esempio guerre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238880" y="6094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0"/>
            <a:ext cx="99036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Trovare 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Lavo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76212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1219320"/>
            <a:ext cx="3733920" cy="1447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Si chiama immigrazione quando in un paese arriv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Stranieri a vivere e cercare lavo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3276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048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429000"/>
            <a:ext cx="30481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In Italia arrivano immigrati soprattu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43800" y="46483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5334120"/>
            <a:ext cx="761760" cy="1523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E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Euro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5410080"/>
            <a:ext cx="182880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Africa Alb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1066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286000"/>
            <a:ext cx="19810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Si chiama emigrazion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Quando vanno all’ est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Per vivere e per cerc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lavo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962520"/>
            <a:ext cx="76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800600"/>
            <a:ext cx="2057400" cy="2057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Gli Italiani sono st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Emigrati in molti paesi 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Una volta, lo 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Anche oggi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495288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4800600"/>
            <a:ext cx="12956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Mete princip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895480" y="525780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5257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53341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5791320"/>
            <a:ext cx="7621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Euro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5867280"/>
            <a:ext cx="838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U.s.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6095880"/>
            <a:ext cx="1067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10:06:34Z</dcterms:created>
  <dc:creator>studente</dc:creator>
  <dc:description/>
  <dc:language>en-US</dc:language>
  <cp:lastModifiedBy>studente</cp:lastModifiedBy>
  <dcterms:modified xsi:type="dcterms:W3CDTF">2016-12-05T10:28:01Z</dcterms:modified>
  <cp:revision>2</cp:revision>
  <dc:subject/>
  <dc:title>Presentazione di PowerPoint</dc:title>
</cp:coreProperties>
</file>